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75E-F104-46BE-A622-69879E30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DD9C-5877-4457-B0CD-7A23360C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B466-B875-4A84-A37C-4E34EAEF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2CA-9BE9-4437-9651-AE19AD67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2EE-9285-4D3B-AB32-EDA2BBE5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AFD-89B9-4BE0-96C8-4E3150E3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905-522B-40AC-B03C-EEF10518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B80-4DB7-4994-BCA7-5053B7CC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4CC-20F2-4D8B-91AC-397F789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B8E-7AEF-4A94-8B3C-4D61669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7BE-7A6F-4A73-9314-BDFFF8C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AD3-7909-4D65-8BB9-D1ED6B2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A1F-533C-4777-8D27-1970D44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EF4-A448-4E0A-98AF-E4E7D1B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7E3-2E79-462F-BE38-232D52D2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286-1217-4E90-B995-8B4B2BF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4E9-71A5-4DB8-B2A5-8275EDA5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 in Pre-K at Clinton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her B.S. in Elementary Education from T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vers her love for mentoring young women through  serving with YOKE Youth Ministri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00:48:45Z</dcterms:modified>
  <cp:revision>29</cp:revision>
  <dc:subject/>
  <dc:title>Profile</dc:title>
</cp:coreProperties>
</file>